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89A-CC1B-4DAD-9F33-E6A18914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C7B-F097-4F0D-9AAB-435EF55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383-7C15-45B8-BE66-3ED6BFCC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D89-28C9-499E-9204-3BA653C3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833-4862-4624-858C-75C611E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EFC-562B-4CCC-B29A-3100721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EB1-C2B1-48BA-BFF0-4CD48DA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8D8-9686-4883-835B-7D1C0E2A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4B0-67B8-4B20-BDAD-F048699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391-E54E-42E3-ADFB-B3BFF75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2B9-2D07-45D8-B382-F5A838B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739-935F-44D7-BF5C-B38DD43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8096-A225-4228-ADCA-EA268C06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ME’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apitoline Wolf sculpture of Romulus and Remus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43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oline Wolf sculpture depicts a she-wolf suckling Romulus and Remus, Rome's legendary founders. Now a symbol of R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4120" cy="464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1981080"/>
            <a:ext cx="32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of Rome’s early history comes from legends.  The legends may not be totally accurate but are useful in giving the qualities and values the early Romans adm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76244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2286000"/>
            <a:ext cx="3429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r of Rome in 753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of seven 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ed Rome’s first army an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a Pompil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97360" cy="440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743200"/>
            <a:ext cx="3962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’s second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ught peace to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ed Rome’s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ru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harioteers round track at Circus Maximus"/>
          <p:cNvPicPr/>
          <p:nvPr/>
        </p:nvPicPr>
        <p:blipFill>
          <a:blip r:embed="rId1"/>
          <a:stretch/>
        </p:blipFill>
        <p:spPr>
          <a:xfrm>
            <a:off x="152280" y="1828800"/>
            <a:ext cx="487692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685800"/>
            <a:ext cx="37339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’s powerful neighbors to the north from Etr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e wealthy 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Rome from 575 – 509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ve the Romans their alphabet and the “ar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 becomes a walled city with paved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Circus Maximus, Temple of Jupiter, Cloaca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quin the 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886200" cy="476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2362320"/>
            <a:ext cx="4114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and last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cruel and terrorized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ed the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9 BCE Romans rebel and send him into ex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8:41:30Z</dcterms:created>
  <dc:creator>gehadde</dc:creator>
  <dc:description/>
  <dc:language>en-US</dc:language>
  <cp:lastModifiedBy>gehadde</cp:lastModifiedBy>
  <dcterms:modified xsi:type="dcterms:W3CDTF">2012-05-21T13:24:22Z</dcterms:modified>
  <cp:revision>17</cp:revision>
  <dc:subject/>
  <dc:title>WARM-UP: #2</dc:title>
</cp:coreProperties>
</file>